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EC1-D38A-42B3-806C-31B71F44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7C1-41A4-42EE-80D7-5290686E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7D2-56FF-4E09-B162-33C926BA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CDA-CA14-4130-8DA3-6C038619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AB05-1BD6-4F96-8A5D-4EE5184F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0DA-D5FA-4593-BEF7-E836EBD8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E000-7718-481D-9BF4-58EE780F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2609-ED0B-43BE-B34B-3C5F2721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EA01-BD4F-4F5B-9BE8-8AA0D78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24AA-573F-4CA2-81B6-ED81EB62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D0C2-5946-4169-B19B-684DC77E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C79-98B2-40C3-9E0E-7AF3D0B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C7A-9399-4DC0-B7BC-BD17109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C675-7745-478A-BAF4-E2B335A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5B17-083A-4D6A-B299-CE014206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4ABD-D562-4300-B179-1578EDB7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263-6797-40F4-BB40-E19B05C3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A7F-5F60-418F-8A9C-1BC888AB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69B-DF1A-4894-9782-1346656A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E13-78E9-40D9-B674-5474FCBA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8E8-2BFB-4A20-9CE4-577432E9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725-588A-41F0-BCA0-128540DB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992-86E7-4240-88DE-F11E4D2D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7A7-3A9B-497B-B293-DC1C98E7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C2E5-2831-47E8-B7D6-13859DFD679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3398-BADA-4EEA-8380-B0562ADC757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ll There Was No Remedy”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ivided Kingdom,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42667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7, 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Kings 16:10-18:7;  2 Chron. 28:22-30: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9-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e Re-Dedicate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29:20-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 gathered the city together for the cerem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ifices were off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rejoiced at how quickly it was restored to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ssover Feast Prepared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30:1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sover had not been held for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delayed one month because of the conflict with the temple 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Juda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rael invited to the f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Keeping of the Passover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30:13-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crowd gath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ests went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unclean” were made clean by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ast extended another 7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rejoiced and God blessed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syrians Destroy Damascus</a:t>
            </a:r>
            <a:br>
              <a:rPr sz="4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Kings 16:9-18; 2 Chron. 28:22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pleased that Tiglath-pilezer destroyed Damas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ent to Damascus to meet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haz Continues His Wickedness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6:10-18; 2 Chron. 28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offered sacrifices to the Syrian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jah ordered to duplicate their al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altar placed in front of the te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ifices made to the fals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haz Shuts Down The Temp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6:10-18; 2 Chron. 28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put aside the worship to Jehov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antled the brazen lavers and the bronz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inal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s to the temple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kah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haz Dies; Hezekiah King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8:1 - 29:21; 2 Chron. 28:27 - 32:33; Isaiah 36-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z died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gned 1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ed in Jerusalem but not in the sepulchers of the 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 Kings 16:19-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 – Reigned 29 yea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B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0600" y="20574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- 3rd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hea conspired against Pekah and slew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ently a “puppet” king for Tiglath-pile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re on Hoshea in the next les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31240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zekiah Reforms Judah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ings 18:3-7; 2 Chron. 29: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d the high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down the Asherah p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 the brass serpent used by M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usted and obeyed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 was with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sing of the Temp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29:3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zeki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opened the doors of the temple and repaire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put the priests and Levites to work cleaning the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explained to them why God had turned from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sing of the Temp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Chron. 29:3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20570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ud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ites purified the te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completed in 16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hip re-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rejoiced because God had blesse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29200" y="2057400"/>
            <a:ext cx="4114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hea reig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23:04:53Z</dcterms:created>
  <dc:creator>Don Vines</dc:creator>
  <dc:description/>
  <dc:language>en-US</dc:language>
  <cp:lastModifiedBy>Frank D Vines</cp:lastModifiedBy>
  <dcterms:modified xsi:type="dcterms:W3CDTF">2006-02-08T23:04:46Z</dcterms:modified>
  <cp:revision>21</cp:revision>
  <dc:subject/>
  <dc:title>“Till There Was No Remedy” The Divided Kingdom, Part 2</dc:title>
</cp:coreProperties>
</file>